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5F3B-F3DE-43CE-946B-DCB2FA0B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A73-7262-43DD-8F4B-65518D3F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993-47C3-4E64-93B2-BE785B0E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EAEF-F565-40B5-928E-401BA1D3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0D42-8CA9-4689-9DA1-791F304E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3BF-C495-4B59-9B61-3EE1D5C0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C03-CF81-4971-AEB3-9F2A7089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EFFA-5F90-47A0-BBE4-16421FC3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CBE6-0E9F-4861-B6F9-F1F0A8AD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921-1697-4809-ABF9-F8A6E1D5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568-E5E0-4F4C-A6B5-D0A0DD3A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0A9-8828-4EC8-B0C7-A00334D7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C4A7-36E6-4A72-AFF3-46CD2207B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peror Pengu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un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dwilliams2\AppData\Local\Microsoft\Windows\Temporary Internet Files\Content.IE5\TXQRI1TX\emperor_penguin_by_laogephoto-d609ou8[1].jpg"/>
          <p:cNvPicPr/>
          <p:nvPr/>
        </p:nvPicPr>
        <p:blipFill>
          <a:blip r:embed="rId2"/>
          <a:stretch/>
        </p:blipFill>
        <p:spPr>
          <a:xfrm>
            <a:off x="685800" y="2209680"/>
            <a:ext cx="35226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18:38:57Z</dcterms:created>
  <dc:creator>dell</dc:creator>
  <dc:description/>
  <dc:language>en-US</dc:language>
  <cp:lastModifiedBy>dell</cp:lastModifiedBy>
  <dcterms:modified xsi:type="dcterms:W3CDTF">2015-01-05T18:42:32Z</dcterms:modified>
  <cp:revision>1</cp:revision>
  <dc:subject/>
  <dc:title>Emperor Penguins</dc:title>
</cp:coreProperties>
</file>